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B093-4A26-4866-8014-CAB82554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DE792-05FB-4931-8CC5-B503FAD7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E8CF1-1B58-44F3-AF23-448CAADC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74C4A-5CCE-4476-836E-B5546DC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60AF-D615-4499-8BCE-CEB9490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6BB9-49E5-4A32-A45C-F7354A90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FBCA5-3709-4E15-A8A2-D6BBBD7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1D52F-07A9-43C8-859D-0E97995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DB4A-972B-4A90-90DB-93E25B6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49AB9-F641-4883-A5B7-5672CCA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F23C3-4CE2-47B7-B884-B5A1480C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2EC6-197F-4ACB-9DCF-F7D0AE7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D922B-4EAA-477C-B63B-DFAE4412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8943B-FA57-4A32-9BB2-B2745C4B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83527-672B-4228-8771-FE196F3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53B0B-7A21-4885-88CC-22530F5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C83EE-94BD-4B98-8129-AE68AAF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ACFAE-EC2A-46D6-AA71-5CB14DC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289ED-46DB-4B4B-B80F-2E2B2DE5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75E0D-F8D3-4308-B583-46B966D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2CE7A-A399-44BC-A17D-CBAEB8D4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56BE7-C856-4D5D-971B-1DC23EDA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9E20-BD4A-4907-9971-1F616A4D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C4E5B-8B93-4668-9BC3-7B1F5227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5FEEC-8635-4CCD-B0BC-8F6838DB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1D178-D0FB-4743-A4E9-3F3D5F7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48C0D-324B-4E31-93D3-030F5B2E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5D42E-1EAE-4849-9D0F-1855B2F7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FEDF7-92A0-4A9B-813C-58B8349B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0F43A-E2B8-47C1-8E95-9F9F32C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C3D81-AB23-4A73-8913-892AC2E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041E7-D993-41FC-AED6-85B2995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D8404-12FE-48AB-BFB5-F277396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7148D-404F-4F4B-97F8-854B069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26BAC-EB8D-4D1F-B98D-B06BE2CA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C29BA-AD26-4F87-951F-EB8622AE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87D70-FF28-4506-97EC-57CDEAE7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562A1-ECA1-4512-A927-B572375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B6EC7-E842-44A2-BC55-3B9DD11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FDCA7-0939-4937-BC22-3E6A0AB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74B4E-2D47-4F6E-8844-03F8FF01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D3961-298E-43F5-A7E5-547CD86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8BF1E-3CCA-40BF-B29E-C3AB415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5D1DF-FED2-4173-A531-9868D7B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DA256-A0C2-4264-AC43-5C7A4E7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EAF8B-334F-49B3-9402-309E572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C665F-B355-4B65-B015-42ADAE6D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26B58-A8DA-4EFF-B744-C1031A17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1D9-B92B-4DDD-AB99-165B95A93E0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54EB-BF0D-4B3A-8BE2-73B3F6B16F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A1A-A4AC-42E4-B7E1-F617ADAA03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7B0-0C66-4EA4-9644-B0F8F6ED97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CE4B-37C0-4656-86EA-25AB5F6919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43C-D877-46B4-9EA0-FE868626A0F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6CF-6CF7-4374-91E7-9F65B340FBF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7654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ECLIPSE N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magine 5" descr=""/>
          <p:cNvPicPr/>
          <p:nvPr/>
        </p:nvPicPr>
        <p:blipFill>
          <a:blip r:embed="rId1"/>
          <a:stretch/>
        </p:blipFill>
        <p:spPr>
          <a:xfrm>
            <a:off x="1521000" y="1417680"/>
            <a:ext cx="6905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re i Runtime Environments nell’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magine 5" descr=""/>
          <p:cNvPicPr/>
          <p:nvPr/>
        </p:nvPicPr>
        <p:blipFill>
          <a:blip r:embed="rId1"/>
          <a:stretch/>
        </p:blipFill>
        <p:spPr>
          <a:xfrm>
            <a:off x="1042920" y="1603440"/>
            <a:ext cx="78868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TOMCAT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magin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8026200" cy="4727880"/>
          </a:xfrm>
          <a:prstGeom prst="rect">
            <a:avLst/>
          </a:prstGeom>
          <a:ln w="0">
            <a:noFill/>
          </a:ln>
        </p:spPr>
      </p:pic>
      <p:sp>
        <p:nvSpPr>
          <p:cNvPr id="338" name="Ovale 6"/>
          <p:cNvSpPr/>
          <p:nvPr/>
        </p:nvSpPr>
        <p:spPr>
          <a:xfrm>
            <a:off x="6443640" y="5013360"/>
            <a:ext cx="936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pecificare la cartella di installazione di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magine 5" descr=""/>
          <p:cNvPicPr/>
          <p:nvPr/>
        </p:nvPicPr>
        <p:blipFill>
          <a:blip r:embed="rId1"/>
          <a:stretch/>
        </p:blipFill>
        <p:spPr>
          <a:xfrm>
            <a:off x="1523880" y="1700280"/>
            <a:ext cx="6883560" cy="4402080"/>
          </a:xfrm>
          <a:prstGeom prst="rect">
            <a:avLst/>
          </a:prstGeom>
          <a:ln w="0">
            <a:noFill/>
          </a:ln>
        </p:spPr>
      </p:pic>
      <p:sp>
        <p:nvSpPr>
          <p:cNvPr id="343" name="Ovale 6"/>
          <p:cNvSpPr/>
          <p:nvPr/>
        </p:nvSpPr>
        <p:spPr>
          <a:xfrm>
            <a:off x="6732720" y="5229360"/>
            <a:ext cx="863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AXIS2, specificando la cartella che contiene il file axis2.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magine 6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12764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ynamic Web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magine 5" descr=""/>
          <p:cNvPicPr/>
          <p:nvPr/>
        </p:nvPicPr>
        <p:blipFill>
          <a:blip r:embed="rId1"/>
          <a:stretch/>
        </p:blipFill>
        <p:spPr>
          <a:xfrm>
            <a:off x="2054160" y="1517760"/>
            <a:ext cx="55422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re un nome al progetto, scegliere la versione 2.5 per Dynamic Web Module e modificare la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magine 5" descr=""/>
          <p:cNvPicPr/>
          <p:nvPr/>
        </p:nvPicPr>
        <p:blipFill>
          <a:blip r:embed="rId1"/>
          <a:stretch/>
        </p:blipFill>
        <p:spPr>
          <a:xfrm>
            <a:off x="2884320" y="1557360"/>
            <a:ext cx="3919680" cy="4632480"/>
          </a:xfrm>
          <a:prstGeom prst="rect">
            <a:avLst/>
          </a:prstGeom>
          <a:ln w="0">
            <a:noFill/>
          </a:ln>
        </p:spPr>
      </p:pic>
      <p:sp>
        <p:nvSpPr>
          <p:cNvPr id="356" name="Ovale 6"/>
          <p:cNvSpPr/>
          <p:nvPr/>
        </p:nvSpPr>
        <p:spPr>
          <a:xfrm>
            <a:off x="6019920" y="3716280"/>
            <a:ext cx="7840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e 7"/>
          <p:cNvSpPr/>
          <p:nvPr/>
        </p:nvSpPr>
        <p:spPr>
          <a:xfrm>
            <a:off x="2884320" y="3284640"/>
            <a:ext cx="14004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e 8"/>
          <p:cNvSpPr/>
          <p:nvPr/>
        </p:nvSpPr>
        <p:spPr>
          <a:xfrm>
            <a:off x="2884320" y="2205000"/>
            <a:ext cx="13273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egliere AXIS2 nei Project 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magine 5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678640" cy="4767120"/>
          </a:xfrm>
          <a:prstGeom prst="rect">
            <a:avLst/>
          </a:prstGeom>
          <a:ln w="0">
            <a:noFill/>
          </a:ln>
        </p:spPr>
      </p:pic>
      <p:sp>
        <p:nvSpPr>
          <p:cNvPr id="363" name="Ovale 6"/>
          <p:cNvSpPr/>
          <p:nvPr/>
        </p:nvSpPr>
        <p:spPr>
          <a:xfrm>
            <a:off x="2124000" y="2421000"/>
            <a:ext cx="1368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una classe al progetto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magine 5" descr=""/>
          <p:cNvPicPr/>
          <p:nvPr/>
        </p:nvPicPr>
        <p:blipFill>
          <a:blip r:embed="rId1"/>
          <a:stretch/>
        </p:blipFill>
        <p:spPr>
          <a:xfrm>
            <a:off x="1198440" y="1643040"/>
            <a:ext cx="7694640" cy="4665600"/>
          </a:xfrm>
          <a:prstGeom prst="rect">
            <a:avLst/>
          </a:prstGeom>
          <a:ln w="0">
            <a:noFill/>
          </a:ln>
        </p:spPr>
      </p:pic>
      <p:sp>
        <p:nvSpPr>
          <p:cNvPr id="368" name="CasellaDiTesto 7"/>
          <p:cNvSpPr/>
          <p:nvPr/>
        </p:nvSpPr>
        <p:spPr>
          <a:xfrm>
            <a:off x="1258920" y="2997360"/>
            <a:ext cx="36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lezionare 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Connettore 2 9"/>
          <p:cNvCxnSpPr/>
          <p:nvPr/>
        </p:nvCxnSpPr>
        <p:spPr>
          <a:xfrm flipH="1" flipV="1">
            <a:off x="1402920" y="1915560"/>
            <a:ext cx="1874160" cy="10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0" name="Ovale 15"/>
          <p:cNvSpPr/>
          <p:nvPr/>
        </p:nvSpPr>
        <p:spPr>
          <a:xfrm>
            <a:off x="5292720" y="3789360"/>
            <a:ext cx="93492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re un nome alla classe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(stesso nome del Progett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Immagine 5" descr=""/>
          <p:cNvPicPr/>
          <p:nvPr/>
        </p:nvPicPr>
        <p:blipFill>
          <a:blip r:embed="rId1"/>
          <a:stretch/>
        </p:blipFill>
        <p:spPr>
          <a:xfrm>
            <a:off x="2668680" y="1490760"/>
            <a:ext cx="39193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remo come realizzare Web Services usando l’IDE Eclipse per J2EE, integrando al suo interno l’ambiente di sviluppo per WS AXIS2 e l’ambiente di runtime TOMCAT come Web Application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il codice de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magine 6" descr=""/>
          <p:cNvPicPr/>
          <p:nvPr/>
        </p:nvPicPr>
        <p:blipFill>
          <a:blip r:embed="rId1"/>
          <a:stretch/>
        </p:blipFill>
        <p:spPr>
          <a:xfrm>
            <a:off x="1042920" y="1189080"/>
            <a:ext cx="7921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a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magine 5" descr=""/>
          <p:cNvPicPr/>
          <p:nvPr/>
        </p:nvPicPr>
        <p:blipFill>
          <a:blip r:embed="rId1"/>
          <a:stretch/>
        </p:blipFill>
        <p:spPr>
          <a:xfrm>
            <a:off x="1703520" y="1197000"/>
            <a:ext cx="6715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magine 5" descr=""/>
          <p:cNvPicPr/>
          <p:nvPr/>
        </p:nvPicPr>
        <p:blipFill>
          <a:blip r:embed="rId1"/>
          <a:stretch/>
        </p:blipFill>
        <p:spPr>
          <a:xfrm>
            <a:off x="1068480" y="1220760"/>
            <a:ext cx="7751520" cy="4897440"/>
          </a:xfrm>
          <a:prstGeom prst="rect">
            <a:avLst/>
          </a:prstGeom>
          <a:ln w="0">
            <a:noFill/>
          </a:ln>
        </p:spPr>
      </p:pic>
      <p:cxnSp>
        <p:nvCxnSpPr>
          <p:cNvPr id="387" name="Connettore 2 7"/>
          <p:cNvCxnSpPr/>
          <p:nvPr/>
        </p:nvCxnSpPr>
        <p:spPr>
          <a:xfrm flipH="1" flipV="1">
            <a:off x="7251120" y="2852280"/>
            <a:ext cx="41652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8" name="CasellaDiTesto 11"/>
          <p:cNvSpPr/>
          <p:nvPr/>
        </p:nvSpPr>
        <p:spPr>
          <a:xfrm>
            <a:off x="6516720" y="4076640"/>
            <a:ext cx="20876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cambiare Apache Axis in Ax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rvice Deployment Configu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Immagine 5" descr=""/>
          <p:cNvPicPr/>
          <p:nvPr/>
        </p:nvPicPr>
        <p:blipFill>
          <a:blip r:embed="rId1"/>
          <a:stretch/>
        </p:blipFill>
        <p:spPr>
          <a:xfrm>
            <a:off x="2087640" y="1527120"/>
            <a:ext cx="5221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  Service Java Bean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Immagine 6" descr=""/>
          <p:cNvPicPr/>
          <p:nvPr/>
        </p:nvPicPr>
        <p:blipFill>
          <a:blip r:embed="rId1"/>
          <a:stretch/>
        </p:blipFill>
        <p:spPr>
          <a:xfrm>
            <a:off x="1289160" y="1593720"/>
            <a:ext cx="7315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vviare il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Immagin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76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blema frequen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 caso avevate già avviato Tomcat prima di lanciare Eclipse, si genererà un errore dovuto al fatto che le porte del server (generalmente la 8080, la 8005 e la 8009 rispettivament per l’ascolto HTTP, per lo startup e per lo shutdown) sono già occup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rà che chiudiate il programma di «monitor» di Tomcat (facendo exit, non basta lo stop del server) e dovrete cambiare le porte del server i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vrete editare in Eclipse il file server.xml e cambiare i numeri delle porte (es. 8080 in 8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mbiare le porte in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Immagine 5" descr=""/>
          <p:cNvPicPr/>
          <p:nvPr/>
        </p:nvPicPr>
        <p:blipFill>
          <a:blip r:embed="rId1"/>
          <a:stretch/>
        </p:blipFill>
        <p:spPr>
          <a:xfrm>
            <a:off x="1392120" y="1417680"/>
            <a:ext cx="7547040" cy="4773600"/>
          </a:xfrm>
          <a:prstGeom prst="rect">
            <a:avLst/>
          </a:prstGeom>
          <a:ln w="0">
            <a:noFill/>
          </a:ln>
        </p:spPr>
      </p:pic>
      <p:sp>
        <p:nvSpPr>
          <p:cNvPr id="409" name="Ovale 6"/>
          <p:cNvSpPr/>
          <p:nvPr/>
        </p:nvSpPr>
        <p:spPr>
          <a:xfrm>
            <a:off x="1835280" y="2997360"/>
            <a:ext cx="86508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7"/>
          <p:cNvSpPr/>
          <p:nvPr/>
        </p:nvSpPr>
        <p:spPr>
          <a:xfrm>
            <a:off x="7380360" y="4869000"/>
            <a:ext cx="431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Service1 avvia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Immagin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7770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 tutto è andato a buon fin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Immagine 5" descr=""/>
          <p:cNvPicPr/>
          <p:nvPr/>
        </p:nvPicPr>
        <p:blipFill>
          <a:blip r:embed="rId1"/>
          <a:stretch/>
        </p:blipFill>
        <p:spPr>
          <a:xfrm>
            <a:off x="1176480" y="1417680"/>
            <a:ext cx="7643520" cy="4827600"/>
          </a:xfrm>
          <a:prstGeom prst="rect">
            <a:avLst/>
          </a:prstGeom>
          <a:ln w="0">
            <a:noFill/>
          </a:ln>
        </p:spPr>
      </p:pic>
      <p:sp>
        <p:nvSpPr>
          <p:cNvPr id="419" name="CasellaDiTesto 6"/>
          <p:cNvSpPr/>
          <p:nvPr/>
        </p:nvSpPr>
        <p:spPr>
          <a:xfrm>
            <a:off x="4572000" y="2852640"/>
            <a:ext cx="345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re qui per visualizzare il WSDL del serv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Connettore 2 8"/>
          <p:cNvCxnSpPr>
            <a:stCxn id="419" idx="1"/>
          </p:cNvCxnSpPr>
          <p:nvPr/>
        </p:nvCxnSpPr>
        <p:spPr>
          <a:xfrm flipH="1">
            <a:off x="2123640" y="3176640"/>
            <a:ext cx="2448720" cy="1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ache Tomcat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un’implementazione open source delle tecnologie Java Servlet, JavaServer Pages, Java Expression Language e Java WebSocket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rnisce un ambiente di runtime per Web server e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ipi di d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7"/>
          <p:cNvSpPr/>
          <p:nvPr/>
        </p:nvSpPr>
        <p:spPr>
          <a:xfrm>
            <a:off x="108000" y="549360"/>
            <a:ext cx="8928000" cy="58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efinitions xmlns:wsdl="http://schemas.xmlsoap.org/wsdl/" xmlns:ns="http://domenicorosaci.it" xmlns:wsaw="http://www.w3.org/2006/05/addressing/wsdl" xmlns:mime="http://schemas.xmlsoap.org/wsdl/mime/"xmlns:http="http://schemas.xmlsoap.org/wsdl/http/" xmlns:xs="http://www.w3.org/2001/XMLSchema" xmlns:soap12="http://schemas.xmlsoap.org/wsdl/soap12/" xmlns:ns1="http://org.apache.axis2/xsd"xmlns:soap="http://schemas.xmlsoap.org/wsdl/soap/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ocumentation&gt;Please Type your service description here&lt;/wsdl:document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chema attributeFormDefault="qualified" elementFormDefault="qualified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a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b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return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Prim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1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cond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2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erz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Http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binding verb="POS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operation location="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CasellaDiTesto 7"/>
          <p:cNvSpPr/>
          <p:nvPr/>
        </p:nvSpPr>
        <p:spPr>
          <a:xfrm>
            <a:off x="108000" y="549360"/>
            <a:ext cx="8928000" cy="32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service name="WebService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1Endpoint" binding="ns:WebService1Soap11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address location="http://localhost:8081/WebService1/services/WebService1.WebService1HttpSoap11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2Endpoint" binding="ns:WebService1Soap12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address location="http://localhost:8081/WebService1/services/WebService1.WebService1HttpSoap12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Endpoint" binding="ns:WebService1Http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address location="http://localhost:8081/WebService1/services/WebService1.WebService1Http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servi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defini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-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sellaDiTesto 7"/>
          <p:cNvSpPr/>
          <p:nvPr/>
        </p:nvSpPr>
        <p:spPr>
          <a:xfrm>
            <a:off x="108000" y="549360"/>
            <a:ext cx="892800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ques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Type name="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 message="ns:sommaRequest" wsaw:Action="urn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 message="ns:sommaResponse" wsaw:Action="urn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archivio Ax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evitare di dovere usare Eclipse ogni volta che vogliamo lanciare il servizio, possiamo creare un archivio axis (file .aar) e renderlo disponibile sul Web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questo scopo, andiamo nella cartella WebService1 in c:\users\username (dove username è il vostro account su Windows), da riga di com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il file .a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Immagine 5" descr=""/>
          <p:cNvPicPr/>
          <p:nvPr/>
        </p:nvPicPr>
        <p:blipFill>
          <a:blip r:embed="rId1"/>
          <a:stretch/>
        </p:blipFill>
        <p:spPr>
          <a:xfrm>
            <a:off x="1055520" y="1405080"/>
            <a:ext cx="7864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loccare il Web Server su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Immagine 5" descr=""/>
          <p:cNvPicPr/>
          <p:nvPr/>
        </p:nvPicPr>
        <p:blipFill>
          <a:blip r:embed="rId1"/>
          <a:stretch/>
        </p:blipFill>
        <p:spPr>
          <a:xfrm>
            <a:off x="1619280" y="1305000"/>
            <a:ext cx="6265800" cy="4932360"/>
          </a:xfrm>
          <a:prstGeom prst="rect">
            <a:avLst/>
          </a:prstGeom>
          <a:ln w="0">
            <a:noFill/>
          </a:ln>
        </p:spPr>
      </p:pic>
      <p:sp>
        <p:nvSpPr>
          <p:cNvPr id="457" name="Ovale 6"/>
          <p:cNvSpPr/>
          <p:nvPr/>
        </p:nvSpPr>
        <p:spPr>
          <a:xfrm>
            <a:off x="7236000" y="52293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ttore 2 8"/>
          <p:cNvCxnSpPr>
            <a:endCxn id="457" idx="1"/>
          </p:cNvCxnSpPr>
          <p:nvPr/>
        </p:nvCxnSpPr>
        <p:spPr>
          <a:xfrm>
            <a:off x="6732360" y="4581000"/>
            <a:ext cx="55764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90440" y="259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piare il file WebService1.aar nella cartella services di Axis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magine 8" descr=""/>
          <p:cNvPicPr/>
          <p:nvPr/>
        </p:nvPicPr>
        <p:blipFill>
          <a:blip r:embed="rId1"/>
          <a:stretch/>
        </p:blipFill>
        <p:spPr>
          <a:xfrm>
            <a:off x="1066680" y="1341360"/>
            <a:ext cx="7969320" cy="4900680"/>
          </a:xfrm>
          <a:prstGeom prst="rect">
            <a:avLst/>
          </a:prstGeom>
          <a:ln w="0">
            <a:noFill/>
          </a:ln>
        </p:spPr>
      </p:pic>
      <p:cxnSp>
        <p:nvCxnSpPr>
          <p:cNvPr id="463" name="Connettore 2 7"/>
          <p:cNvCxnSpPr/>
          <p:nvPr/>
        </p:nvCxnSpPr>
        <p:spPr>
          <a:xfrm>
            <a:off x="2268000" y="3500280"/>
            <a:ext cx="4033080" cy="6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sione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questa esercitazione scaricheremo dal sito tomcat.apache.org la binary distribution 8.5.6, sotto forma di installer per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biamo scelto questa versione perché non presenta particolari incompatibilità con l’IDE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dere il servizio sotto 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16000" y="1600200"/>
            <a:ext cx="757080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viamo Tomcat dal programma monitor. Dovremmo vedere il servizio WebService1 tra i servizi di Axis2 (attenzione: la porta sarà la 80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Immagine 5" descr=""/>
          <p:cNvPicPr/>
          <p:nvPr/>
        </p:nvPicPr>
        <p:blipFill>
          <a:blip r:embed="rId1"/>
          <a:stretch/>
        </p:blipFill>
        <p:spPr>
          <a:xfrm>
            <a:off x="3192480" y="2523960"/>
            <a:ext cx="541188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un client per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Immagine 5" descr=""/>
          <p:cNvPicPr/>
          <p:nvPr/>
        </p:nvPicPr>
        <p:blipFill>
          <a:blip r:embed="rId1"/>
          <a:stretch/>
        </p:blipFill>
        <p:spPr>
          <a:xfrm>
            <a:off x="982800" y="1481040"/>
            <a:ext cx="7910280" cy="4764240"/>
          </a:xfrm>
          <a:prstGeom prst="rect">
            <a:avLst/>
          </a:prstGeom>
          <a:ln w="0">
            <a:noFill/>
          </a:ln>
        </p:spPr>
      </p:pic>
      <p:sp>
        <p:nvSpPr>
          <p:cNvPr id="473" name="CasellaDiTesto 6"/>
          <p:cNvSpPr/>
          <p:nvPr/>
        </p:nvSpPr>
        <p:spPr>
          <a:xfrm>
            <a:off x="2411280" y="3141720"/>
            <a:ext cx="2448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Connettore 2 8"/>
          <p:cNvCxnSpPr>
            <a:stCxn id="473" idx="0"/>
          </p:cNvCxnSpPr>
          <p:nvPr/>
        </p:nvCxnSpPr>
        <p:spPr>
          <a:xfrm flipH="1" flipV="1">
            <a:off x="1186920" y="1772640"/>
            <a:ext cx="2448720" cy="136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zione del 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magine 5" descr=""/>
          <p:cNvPicPr/>
          <p:nvPr/>
        </p:nvPicPr>
        <p:blipFill>
          <a:blip r:embed="rId1"/>
          <a:stretch/>
        </p:blipFill>
        <p:spPr>
          <a:xfrm>
            <a:off x="1096920" y="1442880"/>
            <a:ext cx="7796160" cy="4802400"/>
          </a:xfrm>
          <a:prstGeom prst="rect">
            <a:avLst/>
          </a:prstGeom>
          <a:ln w="0">
            <a:noFill/>
          </a:ln>
        </p:spPr>
      </p:pic>
      <p:sp>
        <p:nvSpPr>
          <p:cNvPr id="479" name="CasellaDiTesto 6"/>
          <p:cNvSpPr/>
          <p:nvPr/>
        </p:nvSpPr>
        <p:spPr>
          <a:xfrm>
            <a:off x="2987640" y="429264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RI de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Connettore 2 8"/>
          <p:cNvCxnSpPr/>
          <p:nvPr/>
        </p:nvCxnSpPr>
        <p:spPr>
          <a:xfrm flipV="1">
            <a:off x="3995280" y="3499560"/>
            <a:ext cx="2025000" cy="793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1" name="Ovale 9"/>
          <p:cNvSpPr/>
          <p:nvPr/>
        </p:nvSpPr>
        <p:spPr>
          <a:xfrm>
            <a:off x="7093080" y="4292640"/>
            <a:ext cx="1655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zione dello Stub e del Callback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nuove classi gener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Stub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CallbackHandler.j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 generiamo una classe per testare i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classe per testare il cl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magine 5" descr=""/>
          <p:cNvPicPr/>
          <p:nvPr/>
        </p:nvPicPr>
        <p:blipFill>
          <a:blip r:embed="rId1"/>
          <a:stretch/>
        </p:blipFill>
        <p:spPr>
          <a:xfrm>
            <a:off x="2116080" y="1197000"/>
            <a:ext cx="5840640" cy="5011560"/>
          </a:xfrm>
          <a:prstGeom prst="rect">
            <a:avLst/>
          </a:prstGeom>
          <a:ln w="0">
            <a:noFill/>
          </a:ln>
        </p:spPr>
      </p:pic>
      <p:sp>
        <p:nvSpPr>
          <p:cNvPr id="490" name="Ovale 6"/>
          <p:cNvSpPr/>
          <p:nvPr/>
        </p:nvSpPr>
        <p:spPr>
          <a:xfrm>
            <a:off x="4067280" y="5877000"/>
            <a:ext cx="649080" cy="33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asellaDiTesto 7"/>
          <p:cNvSpPr/>
          <p:nvPr/>
        </p:nvSpPr>
        <p:spPr>
          <a:xfrm>
            <a:off x="4859280" y="443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come normale Java Application. Ecco il risul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Connettore 2 9"/>
          <p:cNvCxnSpPr>
            <a:endCxn id="490" idx="7"/>
          </p:cNvCxnSpPr>
          <p:nvPr/>
        </p:nvCxnSpPr>
        <p:spPr>
          <a:xfrm flipH="1">
            <a:off x="4620600" y="5360760"/>
            <a:ext cx="1246680" cy="565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 Inst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65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Immagin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848720" cy="5337360"/>
          </a:xfrm>
          <a:prstGeom prst="rect">
            <a:avLst/>
          </a:prstGeom>
          <a:ln w="0">
            <a:noFill/>
          </a:ln>
        </p:spPr>
      </p:pic>
      <p:cxnSp>
        <p:nvCxnSpPr>
          <p:cNvPr id="305" name="Connettore 2 7"/>
          <p:cNvCxnSpPr/>
          <p:nvPr/>
        </p:nvCxnSpPr>
        <p:spPr>
          <a:xfrm flipH="1">
            <a:off x="3850560" y="5157720"/>
            <a:ext cx="108180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6" name="Rettangolo 8"/>
          <p:cNvSpPr/>
          <p:nvPr/>
        </p:nvSpPr>
        <p:spPr>
          <a:xfrm>
            <a:off x="1116000" y="3141720"/>
            <a:ext cx="86364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Axis2 è un Web Services / SOAP / WSDL engine, successore dell’ambiente AXIS. Esistono due implementazioni di Apache Axis2 Web services engine: Apache Axis2/Java and Apache Axis2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 utilizzeremo Axis2/Java, nella versione 1.6.4 di inizio 2016, sempre perché non presnta incompatibilità co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 1.6.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magine 7" descr=""/>
          <p:cNvPicPr/>
          <p:nvPr/>
        </p:nvPicPr>
        <p:blipFill>
          <a:blip r:embed="rId1"/>
          <a:stretch/>
        </p:blipFill>
        <p:spPr>
          <a:xfrm>
            <a:off x="1795320" y="960480"/>
            <a:ext cx="6232680" cy="5211720"/>
          </a:xfrm>
          <a:prstGeom prst="rect">
            <a:avLst/>
          </a:prstGeom>
          <a:ln w="0">
            <a:noFill/>
          </a:ln>
        </p:spPr>
      </p:pic>
      <p:sp>
        <p:nvSpPr>
          <p:cNvPr id="315" name="Rettangolo 8"/>
          <p:cNvSpPr/>
          <p:nvPr/>
        </p:nvSpPr>
        <p:spPr>
          <a:xfrm>
            <a:off x="1795320" y="4797360"/>
            <a:ext cx="35686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la war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Immagine 5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680520" cy="5131080"/>
          </a:xfrm>
          <a:prstGeom prst="rect">
            <a:avLst/>
          </a:prstGeom>
          <a:ln w="0">
            <a:noFill/>
          </a:ln>
        </p:spPr>
      </p:pic>
      <p:sp>
        <p:nvSpPr>
          <p:cNvPr id="320" name="Rettangolo 6"/>
          <p:cNvSpPr/>
          <p:nvPr/>
        </p:nvSpPr>
        <p:spPr>
          <a:xfrm>
            <a:off x="1547640" y="4149720"/>
            <a:ext cx="17290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re AXIS su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6000" y="1599840"/>
            <a:ext cx="75708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ile axis2.war contenuto nello zip va semplicemente estratto all’interno della cartella webapps di TOM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magine 5" descr=""/>
          <p:cNvPicPr/>
          <p:nvPr/>
        </p:nvPicPr>
        <p:blipFill>
          <a:blip r:embed="rId1"/>
          <a:stretch/>
        </p:blipFill>
        <p:spPr>
          <a:xfrm>
            <a:off x="1619280" y="2365200"/>
            <a:ext cx="66196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24:10Z</dcterms:modified>
  <cp:revision>532</cp:revision>
  <dc:subject/>
  <dc:title>Diapositiva 1</dc:title>
</cp:coreProperties>
</file>